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3F8-59DD-43DE-9516-B067DB73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035-133C-4F06-A3F5-3F50D062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8E147-28C9-4D2C-8417-247566CF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FD495-FE59-4112-887C-BF766EB3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0DBAB-0501-4BB6-B626-E26C3338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C7FF7-558E-44BA-AC3D-6DAA8716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019ED-9EA0-4DBF-882F-E7E14D9A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C4E42-5110-4D18-9B74-3277385D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90887-BDAD-4AF9-BEEF-FA9AF46A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38E53-DE2A-470B-B860-7F549E4C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23928-9C04-4803-98E2-5516F794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7D511-2DF7-435E-9295-E3E6AD56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742D-7009-4929-9C6C-E56FC828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26BA0-C5B3-408B-B1B8-1FBAC1C5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F3458-765E-4900-85CA-359E564B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549B1-EBD0-4404-AAF2-04AAFE8F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2FF62-2936-404B-94F9-DD171853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FA2FD-D901-460C-A90D-347A2709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02AF3-845A-4832-962D-02394ACC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A79B3-7997-48F7-8901-E2CD56EB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79A02-7A0C-4C6E-B512-7CFEC751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B66A4-C74A-4CFA-9143-4DC698DC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123BB-D08D-41E2-AFD4-3FFC353C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7BE-E5E3-4833-9351-11A18464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06E8F-DBB5-439F-A4D2-3D9024D0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2B463-F49B-41D2-90B4-FC6CD27F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21E5E-B192-407E-9DF5-94336FAA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B1E10-B3FC-4EF4-A3A0-D0058B75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0883A-79F8-41ED-A0FB-3ADDA30F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1DE1A-682F-4C09-B8E6-24CD96F3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5A24B-7E5D-465F-AA74-7E7C8166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9A87F-F2E2-4785-856D-C7E38EB8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79455-50C1-4B39-8F06-1241FD9C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0B6F6-4CB3-4413-BEDC-5E61673F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BAAA-D846-4F4B-B402-E1F8EA4C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1B134-6BDA-4A09-A18A-E95038AF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FB0C3-9751-42AE-9E71-60AFF1E6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16491-D03F-467F-BC6A-51597CED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90597-C327-4B6C-8063-3BC0BD63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D8798-18D9-4642-AA83-C01C4B62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C964A-458D-4FD7-8831-F5BFD636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A0A4E-FFDF-461C-A273-5B6333A8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95325-5A8D-470A-B59A-84E15A73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B512F-5069-4312-BBF9-55856686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43511-520E-467B-BA2E-9C6D5FF6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CE3E-CE46-43A9-961E-AA837A58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F39E6-7C26-42C2-9FAE-BC78F3BB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D1AF2-1DF0-40AA-B81D-45630C37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818E6-C9D1-4F34-AA2A-B865ECAF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5386D-6660-433C-B201-E7EAAC3C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7649D-1847-4103-B817-3AE1EA84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8D6BB-6590-4FCF-A83C-86E8B467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C01F17-4BEE-47CD-8935-C7129E9B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B4F20-5A0D-493B-A4C7-8703C589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B5263-B386-4DA6-BB40-1D745D98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F3FB1-BB16-4DE6-8967-4E55096D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ED39-A244-4F25-BF5E-84314C2E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301856-1245-4FB3-AE2B-F2A34847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4BE944-C32C-4134-A782-AB6337B1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926C9-12FD-434D-9492-676BFA59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9BFBA-2206-4094-882D-EB4C233D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8BE3A-4CE8-4720-AC3D-8D96903B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3234E-D407-4AC4-B107-B66270B0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49AEA-431B-4536-A5AE-F81BB309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722174-4731-4FFD-B20E-507373D6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1837FA-9FCF-41B4-9E2C-2F49B083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87C661-7D0B-476F-A1E7-B1C8A034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08BF-5A3A-4BF8-8688-E6E4EB04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8027DF-0056-4D9A-8CF8-2085FBD2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946A62-6659-49D5-87AE-7D4E94D3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6D7EBF-6E84-44DB-9245-6C7AF5EE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753A83-C7D2-47F3-855C-900D2A84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641E09-E4AB-440F-8063-D3096B0A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6B2351-58AA-48E4-829A-695DA5DF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BB87C6-7BA2-4FEF-96DB-8A13B965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D8E02-5BDF-4538-A9A7-6C6FF55B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09C3AD-2460-49D2-84D8-BCEDE889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AB1280-723C-4F40-99E4-7623CAE6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5A17-D9C9-4421-96EC-83EAFE99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E89A52-3FE9-421F-8845-1B33EFF6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438A4C-95E9-4F87-8B61-25C35FF1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05F6A7-3FA1-4CE3-8712-C76133B3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906C47-1EB3-442F-97F5-C199C497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0B46E0-9351-4DAB-85D2-5A4DCF1B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D0583E-E18A-4C31-9E8E-D41BD12F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6AC80C-39B1-46C1-A943-A64490A7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593056-24FB-49E9-94B4-30B5B89B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65E75F-7183-450E-AACD-762A2C2D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71D774-8FF5-408A-924F-9CCE0227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58A9-6930-4B6A-A493-2F894344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E423F6-FCAE-413D-A116-9BC41A74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08C447-F2AF-472F-90B1-88D636A9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BC11D8-0E35-4F51-AE80-EDAFDE4A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F9C754-2E95-47EC-91C1-6965DEEF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5D2278-C3A4-4440-8B78-7E8AB5E2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0D702C-3098-4FA7-B2C7-104D9E2F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328900-F51D-49BC-B5B5-B3C00C9D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DEFD8C-30AC-4422-8FF5-044C3EB2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AE2C42-FD94-41DD-89E0-9D426A0F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78F8BF-37C3-428A-A7B7-3D2B844B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A0D7-6ACE-41A7-BBCC-C8E95333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76FA8E-6883-46A3-9960-C29B22C6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D54D1D-3F76-48DF-9F10-9C60D258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F6A049-2B99-4D69-BB3C-AB7EEAC8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975D93-953B-409E-BF71-F338F0D7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8BCE4C-0347-48C3-94E9-2CF555C4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D2E6CF-F21B-4641-846D-C226E5D0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E57B92-104E-4C81-B02C-024C6A17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FB4BEB-01EC-43B9-8376-141F2398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8F56A8-DA92-4C53-98C3-59C31991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3E91F6-3947-46D8-A6CC-58DAC875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DDB9-21D1-48F2-9965-06D758A0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86F8-09D0-4B47-BCA1-84F40809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2906FF-A6D4-47C3-AE0E-BCCE35E3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833898-0A30-497E-B292-3062CCC9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4A27A5-5BE1-457A-852C-75FB950E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A18109-F9AA-4690-AC8B-F56CAAA0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98A9DF-4906-43EC-A444-46B6E132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8104D2-6722-4321-99B8-E0ED31E1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20C4D8-FDDF-48B9-BF18-E71DB9A1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B7F3DA-F814-4189-9FC2-26629FCB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AC7011-3221-4F6D-9EAF-B68B9AAB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1BB7D0-BE47-4939-847C-F5A30112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1269-E052-4C83-BA5F-1B0AEE06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108C6C-D35D-455A-8777-9D927786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9D47CF-F26D-454A-B47D-C92D4A0A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98B6E4-1F42-4949-910F-D05C5E69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EBDA32-446F-4B49-B191-2308476B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61ADA8-0536-4717-BB31-09FC5FDB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9ED513-CE91-4065-815C-44DF7542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19DF62-A2CB-4046-9D40-A0383B5E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823C1E-CFA4-47B4-8005-25EAE434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81D4B3-FA7B-45EF-8992-745ADB77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79B8FC-69DF-4E00-A56E-B81787D2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2DE1-10F2-4DF8-B1B9-EE2D30FD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F59402-249D-43A1-8882-A80E4409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7F7689-917A-4383-B840-45A44597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EBF230-07FA-4B31-924E-5B871DF4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B6DB82-F67C-42D8-B01E-0262F61F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636081-D65C-4DFB-AF78-637157BC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C81929-43AE-4762-B2D0-37616128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382B96-2417-4372-BE71-23E1186C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11A78D-D621-4021-8C47-9E299447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74F393-2DB6-45DE-BC37-266289B0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410BC1-A957-4E2D-937A-F293265D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019F-30AF-440C-A9FE-63158F31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DFAB5B-6464-448E-95EE-58997B5E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AF290F-9A16-4EC4-A707-FCD9ADFD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61E76E-F88D-4C61-9636-5F095B53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439841-8216-4F56-B746-850BB92E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5449E7-0559-40DF-8CB3-A005BD2C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6DF2EC-7D7B-4A60-B8F4-3497DE2D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AE6298-7AEF-4044-9680-02894EB0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3E9337-C695-4060-BD7E-664FA4D1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18A2F6-0104-460A-89D3-D4198566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75361B-CE2F-4032-8776-5806A846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D745-2A56-4361-B504-31CDEDBD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6448F2-51ED-4881-A5C7-4D03B171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3A21ED-3DA1-434E-8801-630E5E50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7964C4-41A7-4A06-BFE8-6D82685E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31D853-2334-4BED-BB5C-0CE6685B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E04982-FD14-4EB7-AF73-AF77CD1F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212879-9AA5-449A-8D5F-F226ABF9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AFB320-A201-4F98-AD59-218A6321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7A7BC3-F312-4838-B4A2-484282AC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1F9B81-E223-427E-98B5-E3904622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082223-EAE4-4D7F-91A5-F5B26AF7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975E3-90BE-436C-98EC-2407A86E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1BB32A-D091-442C-AD55-BCAE7925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300370-7617-49B0-A689-19A41361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65B424-C035-436E-831B-F377BF36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279B0-3120-487D-9EF2-F5EBD5DA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FFC34-39B5-4202-94CE-64E3B403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E4EF5-3FD7-4DD4-9C11-F401EB4E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7A58D-5E86-489A-87B7-0A3CDDBA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48B-F2F9-47D9-834B-7010D026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1D236-06D7-4825-BD93-92ED609F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0B547-3C02-4974-B4CA-D0D4641E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EC03C-7A9F-431F-8622-17A4F395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ADD81-C4FA-4FA2-B6A0-DD8BA661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34C58-6AA9-448D-B2D2-458C5A47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C4043-5E88-4626-A1CA-7F9CCFA1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7E4F0-2D14-47E1-B596-4B06C096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9FFD4-1E24-4F22-AF62-3346D536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99866-3319-4525-8338-CBC0B7C8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C125C-927E-42D8-97A6-DAE7A858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1E1-3822-4085-8CB0-CD1F86FE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28657-C65A-4E5F-9DEA-F9D9A1B4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3461B-4925-4A50-9E70-1454A78B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ECADE-BDB6-46B8-8FA6-042D1E61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1A00D-46F7-4811-8203-DB3188D8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3AECB-EA22-4219-A772-4A3818B7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D43A0-77AD-4113-96AC-612776F3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814D5-1076-461A-BDBE-D6B728D0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5944C-1EB4-441C-B248-D679DA37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E90AC-731B-48E3-807E-DDAB455F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8C910-3607-4474-85C1-87D5FE9F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427-26D5-4096-BB3A-7D07B392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E582C-F571-4CF8-BA12-3C6108ED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D393E-8784-4B85-AEA1-C4D59D77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39591-C361-41B8-8D85-46366636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692DD-EE23-4EFC-8B8E-7CC064AC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8E520-21A3-4BEC-8896-87495071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75066-C1A4-45BC-B32F-9B465E47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0D51D-89EA-45F1-8516-F43886CA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50E46-283F-43F0-85B2-D30C6A46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B0474-EB0D-448E-BDB2-31CCD712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A3A14-EF7A-43C6-8E97-60B27748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268-9267-4E50-890D-AF18BCBB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40797-33E4-409E-9137-B9D0802F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D4DDD-99A2-4BBA-8459-C7E9A356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E379C-CABC-4BFD-8FF7-CCBB3F91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4C8B2-19B9-4B5D-A588-2BE2F4E4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AF352-1473-47DC-87B7-AE53882C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22BEA-68AD-4986-8706-8492C2C9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ECFC1-14D4-4C18-9724-35952A0F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15CDC-EAD3-4A75-AA30-023D6518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15C7C-F4F6-410B-BF32-7D637FF9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FF09F-3146-463B-B22E-37A22115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E316-FDAC-4E0B-99DF-A24A1C9F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89206-8750-409B-A177-0444A013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3E640-2586-488E-8840-FC49569B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90779-A398-4EE8-AAD6-7444AC6F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186B8-A974-4A0B-A044-616711A4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D8B45-A8DD-4B7C-91A4-EAEA0EBE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C4675-C327-4AE7-B405-51BCE103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8BF7B-D27B-44E9-8B14-0BBEC44C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BD1E7-3ADE-41E3-AB58-E09952BC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F3C7F-C924-4640-A0F6-DA7B7992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D4D8A-1A56-4DCD-AC5A-CA41FD4C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D793-AD4E-4CE0-9365-82AFB76E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A4D70-60D6-41C4-BBA0-02F54817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EC5B7-E805-4CF6-9FE2-F3710241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13954-E155-44CD-8FF6-94D74FE6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C6BAA-FB45-41AE-99A4-861FF5FF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42BA1-F80D-4F06-86E0-D6C3B1F1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ACAD8-F001-40E3-A76B-C739AB58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9E9F0-3E0F-45FB-8E9D-CDD7C917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24BE7-E4B2-4086-91ED-C88E4185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EA41B-00AE-4525-880D-99AF2130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1C706-0FCE-4E72-B48F-B8659AE5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2592-7F95-459D-96B6-D293A66C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BFEEF-DA7F-4F0F-9DFF-85CD9EC1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36AA5-925A-42EB-9621-83738D23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1A80B-B1CE-438A-963A-596378D4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6E9C9-8656-46AE-B18C-F290E0E3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79DDF-525A-4262-B95D-A9DAD1FB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9C5D5-C325-4D86-99BD-44C8C98E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8C0D5-2D17-48A0-A3DE-E92C65F1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4E296-7680-4C63-8132-372AB60E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C9C13-EE0C-4BED-97E9-9D3B0E3B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B9880-583D-4B8D-A5A6-2E5CAB76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2774-6AD9-4C96-B808-35132C8CD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87DA-1FE5-4087-8097-7A436A808F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BFA5-407A-4436-B6D0-E07A7C973D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579A-9EEB-418C-930B-27F0A75DC8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061C-5982-44ED-BF14-88F005949B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0E62-C4AC-4E7D-A3BA-C5E91AE91C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A625-E2C6-433F-AAC5-872DE2BD28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A2B8-DEBF-4767-9E65-0E3C589792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4B38-5AC2-4AF4-A75B-630E3FCA82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6976-B84E-4E6D-BAE4-2EC754D4CB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8D52-3837-46B0-A1C1-4C15BAFE9B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DAAD-2870-4C12-B568-3197D03620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28CD-40C6-46BC-A97E-97F8CF750F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49F7-B93A-4466-8434-002C0AAE8D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B927-6A01-471D-BAA4-07B52B3C36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A607-A79E-48EA-8FED-B91618C266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D354-F1B4-4BED-8025-D1FAFC6FE7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F8C1-5DF7-4C29-A513-863284C7E7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0189-241C-4193-8E85-B8443D6D63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7449-501B-463B-89D9-E8087781D9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A9FC-DBB4-43A3-A182-E7BEB05B5B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5D6F-485B-4311-9549-9BE30B15FA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5596-A8DB-4E8B-B34A-2348F3AA77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410F-7F72-4417-9613-F962E43016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990B-A08A-4042-9B3F-755EE73F7C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818F-0682-4EB8-876C-D15D2B8AD9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B519-1447-4C9F-B930-D48C14B960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EF92-387F-4CB2-99CB-67520F5A5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7C8E-40C7-4F6F-8BBD-039BC2DB42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BF12-A3E1-44E9-A2C2-0359B4AA83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0150-F46C-47E9-B050-B507BEA428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5E2C-C95A-48CA-A91A-0BFE9FEE44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6AB2-FE20-4BD6-8E79-FF4400FCF6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7109-A383-444D-8E71-3EE2964B76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9018-4841-421E-B1B8-6F929C7CB9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1AE6-CF77-49AF-A104-F402CEA69D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88A3-D0CD-426B-BB7E-1C713753F4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C9FC-1DFB-46A0-864F-CBF0CAD165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310B-193A-47A6-8760-BFAB4F461F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9EEA-4B7F-4A92-8C4C-244E5C775E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34824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295200" y="803160"/>
            <a:ext cx="8553600" cy="59626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730080" y="2428920"/>
            <a:ext cx="543240" cy="4302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709560" y="4325760"/>
            <a:ext cx="542880" cy="4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324000" y="1200240"/>
            <a:ext cx="8496000" cy="48006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2"/>
          <a:stretch/>
        </p:blipFill>
        <p:spPr>
          <a:xfrm>
            <a:off x="739800" y="214308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3"/>
          <a:stretch/>
        </p:blipFill>
        <p:spPr>
          <a:xfrm>
            <a:off x="750960" y="4060800"/>
            <a:ext cx="54288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428760" y="790560"/>
            <a:ext cx="8429400" cy="22096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2" descr=""/>
          <p:cNvPicPr/>
          <p:nvPr/>
        </p:nvPicPr>
        <p:blipFill>
          <a:blip r:embed="rId2"/>
          <a:stretch/>
        </p:blipFill>
        <p:spPr>
          <a:xfrm>
            <a:off x="388800" y="3021120"/>
            <a:ext cx="8467920" cy="37908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3"/>
          <a:stretch/>
        </p:blipFill>
        <p:spPr>
          <a:xfrm>
            <a:off x="5479920" y="2960640"/>
            <a:ext cx="2057400" cy="428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4"/>
          <a:stretch/>
        </p:blipFill>
        <p:spPr>
          <a:xfrm>
            <a:off x="4286160" y="2521080"/>
            <a:ext cx="1571760" cy="368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5"/>
          <a:stretch/>
        </p:blipFill>
        <p:spPr>
          <a:xfrm>
            <a:off x="5500800" y="35211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6"/>
          <a:stretch/>
        </p:blipFill>
        <p:spPr>
          <a:xfrm>
            <a:off x="2928960" y="4000680"/>
            <a:ext cx="1357200" cy="368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7"/>
          <a:stretch/>
        </p:blipFill>
        <p:spPr>
          <a:xfrm>
            <a:off x="5346720" y="50007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8"/>
          <a:stretch/>
        </p:blipFill>
        <p:spPr>
          <a:xfrm>
            <a:off x="642960" y="548964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9"/>
          <a:stretch/>
        </p:blipFill>
        <p:spPr>
          <a:xfrm>
            <a:off x="4389480" y="5981760"/>
            <a:ext cx="171432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328680" y="928800"/>
            <a:ext cx="8486640" cy="57150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2"/>
          <a:stretch/>
        </p:blipFill>
        <p:spPr>
          <a:xfrm>
            <a:off x="2786040" y="195264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3"/>
          <a:stretch/>
        </p:blipFill>
        <p:spPr>
          <a:xfrm>
            <a:off x="6143760" y="19288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4"/>
          <a:stretch/>
        </p:blipFill>
        <p:spPr>
          <a:xfrm>
            <a:off x="2643120" y="3357720"/>
            <a:ext cx="857160" cy="368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5"/>
          <a:stretch/>
        </p:blipFill>
        <p:spPr>
          <a:xfrm>
            <a:off x="4857840" y="3398760"/>
            <a:ext cx="1928880" cy="3700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6"/>
          <a:stretch/>
        </p:blipFill>
        <p:spPr>
          <a:xfrm>
            <a:off x="4968720" y="43689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7"/>
          <a:stretch/>
        </p:blipFill>
        <p:spPr>
          <a:xfrm>
            <a:off x="7500960" y="43671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8"/>
          <a:stretch/>
        </p:blipFill>
        <p:spPr>
          <a:xfrm>
            <a:off x="1643040" y="48466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9"/>
          <a:stretch/>
        </p:blipFill>
        <p:spPr>
          <a:xfrm>
            <a:off x="3714840" y="4846680"/>
            <a:ext cx="785880" cy="368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10"/>
          <a:stretch/>
        </p:blipFill>
        <p:spPr>
          <a:xfrm>
            <a:off x="928800" y="5786280"/>
            <a:ext cx="2000160" cy="368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11"/>
          <a:stretch/>
        </p:blipFill>
        <p:spPr>
          <a:xfrm>
            <a:off x="6673680" y="5818320"/>
            <a:ext cx="11430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324000" y="966960"/>
            <a:ext cx="8496000" cy="55339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2"/>
          <a:stretch/>
        </p:blipFill>
        <p:spPr>
          <a:xfrm>
            <a:off x="5019840" y="1488960"/>
            <a:ext cx="1143000" cy="3700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3"/>
          <a:stretch/>
        </p:blipFill>
        <p:spPr>
          <a:xfrm>
            <a:off x="7500960" y="1469880"/>
            <a:ext cx="1143000" cy="3700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4"/>
          <a:stretch/>
        </p:blipFill>
        <p:spPr>
          <a:xfrm>
            <a:off x="1143000" y="1960560"/>
            <a:ext cx="1571760" cy="368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5"/>
          <a:stretch/>
        </p:blipFill>
        <p:spPr>
          <a:xfrm>
            <a:off x="6572160" y="5113440"/>
            <a:ext cx="1143000" cy="3697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6"/>
          <a:stretch/>
        </p:blipFill>
        <p:spPr>
          <a:xfrm>
            <a:off x="6143760" y="5592600"/>
            <a:ext cx="1143000" cy="3686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7"/>
          <a:stretch/>
        </p:blipFill>
        <p:spPr>
          <a:xfrm>
            <a:off x="7358040" y="6083280"/>
            <a:ext cx="11430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343080" y="1062000"/>
            <a:ext cx="8458200" cy="52959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2"/>
          <a:stretch/>
        </p:blipFill>
        <p:spPr>
          <a:xfrm>
            <a:off x="5929200" y="1531800"/>
            <a:ext cx="1285920" cy="368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3"/>
          <a:stretch/>
        </p:blipFill>
        <p:spPr>
          <a:xfrm>
            <a:off x="1143000" y="3000240"/>
            <a:ext cx="1857240" cy="368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4"/>
          <a:stretch/>
        </p:blipFill>
        <p:spPr>
          <a:xfrm>
            <a:off x="7286760" y="297972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5"/>
          <a:stretch/>
        </p:blipFill>
        <p:spPr>
          <a:xfrm>
            <a:off x="5929200" y="493884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6"/>
          <a:stretch/>
        </p:blipFill>
        <p:spPr>
          <a:xfrm>
            <a:off x="4929120" y="53974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7"/>
          <a:stretch/>
        </p:blipFill>
        <p:spPr>
          <a:xfrm>
            <a:off x="1785960" y="5899320"/>
            <a:ext cx="185724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Picture 1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8439120" cy="1943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2"/>
          <a:stretch/>
        </p:blipFill>
        <p:spPr>
          <a:xfrm>
            <a:off x="3929040" y="1849320"/>
            <a:ext cx="11430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28:22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